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B209-28D9-4785-B5C6-6284B1824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33.xml"/><Relationship Id="rId3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C315-2D9A-4DFF-A8F7-3CD7EA2B1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BF1F-809F-48D2-B3BC-4DEF9A2DAA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B00E-9673-461B-937E-EEC45D4CF12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A3B3-07EF-4E91-93BA-5304D2264A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9ECF-BB5B-49DA-BD40-9422F0FAF8E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BFC-52D3-4F81-9C74-FEE6D6D9E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B2BB-BF02-4B66-B5E2-EB58E4173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B17E-FFD4-4A4B-B986-07AE79FCC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5791-05D4-4257-9EB1-6662B011C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974880" y="4560840"/>
            <a:ext cx="528300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18D-106B-45C6-85D0-09D26569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3F6-EFE6-4C30-91D5-D2EE36AB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C73-F646-42EF-9951-69164D6E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E74-F3BB-4EB3-A2D7-8A11F473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628-5CF5-4348-9657-50BD6F9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576-2F9E-4563-9820-159C0651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53A-29DD-466A-BE6F-200A03D7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931-6547-43D1-8AB8-53EC482C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968-57BB-4D28-8201-00F27C83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72B-7191-4B9D-B929-080C5CC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1BC-BF4B-42C9-95A1-320EA9D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F66-D775-4F6C-8D4F-16024927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F581-47B7-473F-90CA-C437AE7D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53400" y="6400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nnect.mcgraw-hill.com/class/p_valverde_spring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valverdep@wit.edu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Welcome to Biol4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8960" y="2743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oma Valverde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verdep@w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i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a Allen Building, Room 2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pertie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/living organis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biologists us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meth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ud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6B4-D459-4766-8635-C31A8D8DB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What is bi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ts broadest sens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y of life and consists of many disciplines (biochemistry, cell biology, zoology, botany, ecolog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Properties of Living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shared 7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highly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osed of 1 or many cells (a cell is the basic unit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other living organisms and the environment, and respond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row and 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materials and use energy to perform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state of internal balance within the tolerance range of the organis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and modify with time (evolution) to make organisms suited to their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429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ff"/>
                </a:solidFill>
                <a:latin typeface="Arial"/>
              </a:rPr>
              <a:t>Levels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"/>
          <p:cNvPicPr/>
          <p:nvPr/>
        </p:nvPicPr>
        <p:blipFill>
          <a:blip r:embed="rId1"/>
          <a:stretch/>
        </p:blipFill>
        <p:spPr>
          <a:xfrm>
            <a:off x="5562720" y="174600"/>
            <a:ext cx="3400200" cy="6464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4048920" y="457200"/>
            <a:ext cx="170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473880" cy="482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770400" y="548640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872680" y="55627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all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20_01StructuralHierarc_5-U"/>
          <p:cNvPicPr/>
          <p:nvPr/>
        </p:nvPicPr>
        <p:blipFill>
          <a:blip r:embed="rId1"/>
          <a:stretch/>
        </p:blipFill>
        <p:spPr>
          <a:xfrm>
            <a:off x="507960" y="139680"/>
            <a:ext cx="8128080" cy="6578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5960" y="1143000"/>
            <a:ext cx="1774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ellular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 ce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621240" y="1073160"/>
            <a:ext cx="1774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ssu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440400" y="3559320"/>
            <a:ext cx="1322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gan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732040" y="4322880"/>
            <a:ext cx="2435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417840" y="5678640"/>
            <a:ext cx="24224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ganism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ny organ syste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unctioning toge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90400" y="1144440"/>
            <a:ext cx="263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340080" y="1076400"/>
            <a:ext cx="274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6143760" y="3565440"/>
            <a:ext cx="263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457360" y="4316400"/>
            <a:ext cx="263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156120" y="5676840"/>
            <a:ext cx="263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533520" y="4267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all organisms of the same species (look alike and can interbreed) in a particula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all of the local interacting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 of aspects of a community and the physical environment (soil, atmosphere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ur planet Earth) consists of different ecosystems that interact with each other. The Biosphere is the zone of air, land and water where organism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6588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1906-1312-4EF1-BCC3-175AF492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562720" cy="32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6390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ff"/>
                </a:solidFill>
                <a:latin typeface="Arial"/>
              </a:rPr>
              <a:t>Energy is needed to surv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1360" y="1392120"/>
            <a:ext cx="83772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quired to maintaining organization and conducting life-sustain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n is the ultimate source of energy for nearly all lif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ganisms, such as plants, capture solar energy to carry on photosynthesis (autotrophs). Photosynthesis transforms solar energy into chemical energy by producing Organic Molecules (with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energy is used by other organisms by the process of cellular respiration e.g. animals (heterotro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l the chemical reactions that occur in a cell or in an organism to maintain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ategories: Catabolism (breaks down organic molecules), ex in cellular respiration; anabolism uses energy to contruct large molecules such as proteins and nucleic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Homeostasis is another characteristic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Maintenance of internal conditions within the tolerance range of the organism (temperature, moisture level, pH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4fff"/>
                </a:solidFill>
                <a:latin typeface="Arial"/>
              </a:rPr>
              <a:t>Course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 406 introduces fundamentals principles of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 and Gene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atomy,physiolog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luence of biology in our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146-4213-4DD4-A3B0-39E655A488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ff"/>
                </a:solidFill>
                <a:latin typeface="Arial"/>
              </a:rPr>
              <a:t>Living Things:  Respond to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1360" y="1392120"/>
            <a:ext cx="8377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ing organisms interact with other living organisms and with the environment and respond to stimuli o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sures survival of the organism and it often results in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lture can detect and find carcass a mile away and soar        toward d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arch butterfly senses approach of fall and migrates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oganisms can sense light or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of plants follow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lective responses of an organism constitu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20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f3fff"/>
                </a:solidFill>
                <a:latin typeface="Arial"/>
              </a:rPr>
              <a:t>Living Things:  Reproduce and Develo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1391760"/>
            <a:ext cx="8377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are born, grow and then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organisms must reproduce to ensure continued existence and maintai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al instructions encoded in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ff"/>
                </a:solidFill>
                <a:latin typeface="Arial"/>
              </a:rPr>
              <a:t>Living Things:  Adapt to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360" y="1391760"/>
            <a:ext cx="8377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modification that makes an organism more suited to its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become modified over long perio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to environmental changes by developing new adap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ff"/>
                </a:solidFill>
                <a:latin typeface="Arial"/>
              </a:rPr>
              <a:t>Living things: Evol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77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rganisms can adapt, they can also ev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a species over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diversity, organisms share the same basic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cells organized in a similar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genes are composed of D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 the same metabolic reactions to acquire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they are descended from a common ancestor organism that lived on the Earth millions of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iological studies use the scientific method and lab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methods are essential scientific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forms of inquiry in biology involve lab experimentation, some are discovery-based or may be involve tests by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72E5-1221-4A85-9DEE-25C7A3ED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04920" y="68580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ff"/>
                </a:solidFill>
                <a:latin typeface="Arial"/>
              </a:rPr>
              <a:t>How does Biology study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y is the scientific study of life. Many biological studies involv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the scientific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in the scientific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carefu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cientists can develop a 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ssible explanation to an observation that allows for predictions to be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 and data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st the validity of the hypothesis (by seeing if the predictions come true). If the predictions do not come true the hypothesis is falsified (proven wr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reach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ff"/>
                </a:solidFill>
                <a:latin typeface="Arial"/>
              </a:rPr>
              <a:t>Biology and the Scientific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f3fff"/>
                </a:solidFill>
                <a:latin typeface="Arial"/>
              </a:rPr>
              <a:t>Developing a good 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30000"/>
            <a:ext cx="8534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ypothesis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able (able to be proven valid through experiment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ifiable (able to be proven not val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 biologist will develop a main hypothesis and alternative hypothesis and do two or more experiments to save time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 can develop experiments to prove that a main hypothesis is right and experiments to falsify another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518148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Your flashlight does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y doesn’t your flashligh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1: The batteries ar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2: The bulb is burnt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of these hypotheses are testable with experi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ments allow to falsify the hypothesis (invalid hypothesis) or not falsify the hypothesis (valid hypothes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01_24-CampgroundInquiry-U"/>
          <p:cNvPicPr/>
          <p:nvPr/>
        </p:nvPicPr>
        <p:blipFill>
          <a:blip r:embed="rId1"/>
          <a:stretch/>
        </p:blipFill>
        <p:spPr>
          <a:xfrm>
            <a:off x="5410080" y="0"/>
            <a:ext cx="3322800" cy="6585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5"/>
          <p:cNvSpPr/>
          <p:nvPr/>
        </p:nvSpPr>
        <p:spPr>
          <a:xfrm>
            <a:off x="6622920" y="736560"/>
            <a:ext cx="73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730920" y="1925640"/>
            <a:ext cx="530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5780160" y="2676600"/>
            <a:ext cx="82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hesis #1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ad batt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396200" y="2670120"/>
            <a:ext cx="83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hesis #2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rnt-out bul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5686560" y="3362400"/>
            <a:ext cx="1060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lacing batt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ll fix 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7394400" y="3362400"/>
            <a:ext cx="905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lacing bul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ll fix 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729400" y="4896000"/>
            <a:ext cx="88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7377120" y="4892760"/>
            <a:ext cx="91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04040" y="6200640"/>
            <a:ext cx="13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falsifies hypo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918480" y="6205680"/>
            <a:ext cx="176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does not falsify hypo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6333480" y="4114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BAC-9D55-4CD7-AF02-F32DB658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ff"/>
                </a:solidFill>
                <a:latin typeface="Arial"/>
              </a:rPr>
              <a:t>Controls, Variables and Controlled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ests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ust be carefully designed to test only on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actor that influences the experiment, for example temperature)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ntrolled experiment you will compare IN PARALLEL an experimental group (in which one variable is changed) with a control group (in which the vari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Example of Controlled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have to test a new miracle food in a group of overweight pood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: Mirac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group: Half of the poodles will be fed with regula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group: The other half of the poodles will be fed with mirac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th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group: Overweight Poodles gai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group: Overweight Poodles lose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The miracle food helps overweight poodles lose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4fff"/>
                </a:solidFill>
                <a:latin typeface="Arial"/>
              </a:rPr>
              <a:t>Instructional Methodolog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can be defined as a hybrid since approximately 30-40% of it involves online-like activities and/or online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will use blackboard and connectplus to post grades, announcements, assignments, power point presentations, lab handouts and interac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be required to keep a lab manual including wet and dry lab-related activ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work individually or in groups to discuss or write about current topics in biology. Students will also deliver a final project to the class by using lecture-capture technology. Office hours will be available both online and on-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53A2-74AF-4863-8ADB-0ED446EE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4fff"/>
                </a:solidFill>
                <a:latin typeface="Arial"/>
              </a:rPr>
              <a:t>Theories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Theory is the best current explanation for an observation that is supported by a broad range of observations, experiments and data (a much greater body of evidence than a hypothe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pothesis may become a theory if a lot of evidence is found for its validity: An example of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Darwin’s theory of natural sele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D3A-E1C6-4111-A220-33965791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ff"/>
                </a:solidFill>
                <a:latin typeface="Arial"/>
              </a:rPr>
              <a:t>Example of Scientific Inquiry in Biology: Darwin and his theory of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880" y="1599840"/>
            <a:ext cx="60962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an English naturalist that served on a 5 years-long mapping expedition around coastal South America in 1831 (he was 22 years old) on board of the Bea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01_18CharlesDarwin-L"/>
          <p:cNvPicPr/>
          <p:nvPr/>
        </p:nvPicPr>
        <p:blipFill>
          <a:blip r:embed="rId1"/>
          <a:stretch/>
        </p:blipFill>
        <p:spPr>
          <a:xfrm>
            <a:off x="533520" y="1447920"/>
            <a:ext cx="1752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55C-3ACE-4336-80A1-9B775718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ff"/>
                </a:solidFill>
                <a:latin typeface="Arial"/>
              </a:rPr>
              <a:t>Darwin’s Evidence: The beaks of the Galapagos Fin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observed 14 species of finches in the Galapagos Islands, and noticed variations in their beaks and in what they ate in the different i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proposed that the different beaks represented evolutionary adaptations that improved their ability to eat the foods available in the different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three_galapagos_fin_c_ph_435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83944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f3fff"/>
                </a:solidFill>
                <a:latin typeface="Arial"/>
              </a:rPr>
              <a:t>Darwin formulated the hypothesis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3f3fff"/>
                </a:solidFill>
                <a:latin typeface="Arial"/>
              </a:rPr>
              <a:t> occurs because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tion of a species over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Individuals that are best adapted to their environment are more likely to survive and reprod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Over time, more individuals in a population will have the advantageous tra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ther words, the natural environment “selects” for beneficial trait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The survival of the fitte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ff"/>
                </a:solidFill>
                <a:latin typeface="Arial"/>
              </a:rPr>
              <a:t>Post-Darwin Evolution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ssils are found all the time that suggest evolution has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ical similarities between different organisms also suggest we have had a commo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initial hypothesis became a theory because of the large amount of evidence that support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ad2543X_01_12_baseart.jpg"/>
          <p:cNvPicPr/>
          <p:nvPr/>
        </p:nvPicPr>
        <p:blipFill>
          <a:blip r:embed="rId1"/>
          <a:stretch/>
        </p:blipFill>
        <p:spPr>
          <a:xfrm>
            <a:off x="2514600" y="1523880"/>
            <a:ext cx="3724200" cy="4797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092760" y="1781280"/>
            <a:ext cx="66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792160" y="2052720"/>
            <a:ext cx="1283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w 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 made, and prev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are studi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116160" y="289728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653200" y="3165480"/>
            <a:ext cx="1564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from variou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s is used to formul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testable state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5094360" y="402264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4700880" y="4292640"/>
            <a:ext cx="1367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results are analyze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d the hypothesis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orted or rejec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4950360" y="5116680"/>
            <a:ext cx="92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4775040" y="5405400"/>
            <a:ext cx="1270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y experiment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servations support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2735280" y="4021200"/>
            <a:ext cx="1422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periment/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2789640" y="4289400"/>
            <a:ext cx="1294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hypothesis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ed by experi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 further observ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1271520" y="1373040"/>
            <a:ext cx="617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The Scientific Method in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04920" y="2666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ana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ob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624852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st current expla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n ob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ts of evid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s its valid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 1 &amp; Special Topic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80880" y="1295280"/>
            <a:ext cx="84582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R) </a:t>
            </a:r>
            <a:r>
              <a:rPr b="1" lang="en-US" sz="2800" spc="-1" strike="noStrike">
                <a:solidFill>
                  <a:srgbClr val="3f3fff"/>
                </a:solidFill>
                <a:latin typeface="Arial"/>
              </a:rPr>
              <a:t>Lab 1: Tutorial about the Scientif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one face-to-face in the lab (ANXNO003), but in the future you can do online labs on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computer/Work i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online with your computer (use lab handout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board) but write answers in hard co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handouts collected and graded twice dur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ester (electronic handouts are not accep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f3fff"/>
                </a:solidFill>
                <a:latin typeface="Arial"/>
              </a:rPr>
              <a:t>Special topic 1 and Assignment 1: Exobiology/Astrobiology; the scientific method in 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ose one face-to-face in class but in the future you can work on your own or in groups on the special topics and send by email to me (valverdep@wit.ed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4fff"/>
                </a:solidFill>
                <a:latin typeface="Arial"/>
              </a:rPr>
              <a:t>Online component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a227"/>
                </a:solidFill>
                <a:latin typeface="Arial"/>
              </a:rPr>
              <a:t>Labs 1, 2, 7, 10 and 13 are online la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a227"/>
                </a:solidFill>
                <a:latin typeface="Arial"/>
              </a:rPr>
              <a:t>Special topics sessions on Fridays ar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 not have to go to class/lab on those days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 have to complete the activities the day of the lab or special top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completion of the activity: Send email to me indicating you completed it and did not have an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blems with the activity: Ask me and I will help you (during those sessions you can come to my office or call me). Use google chat/offic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965B-8A8B-4CC6-B6EA-6283066E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4fff"/>
                </a:solidFill>
                <a:latin typeface="Arial"/>
              </a:rPr>
              <a:t>Required Text Book and Online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nnect.mcgraw-hill.com/class/p_valverde_spring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is called: Biology,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, Mader, McGraw-H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above: electronic book and online assignment technology (</a:t>
            </a:r>
            <a:r>
              <a:rPr b="1" lang="en-US" sz="3200" spc="-1" strike="noStrike">
                <a:solidFill>
                  <a:srgbClr val="4f4fff"/>
                </a:solidFill>
                <a:latin typeface="Arial"/>
              </a:rPr>
              <a:t>buy Connectp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$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20C4-4128-4747-A08F-EAACD8A50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Other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free gmail account to be able to use google voice/video chat and google do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l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n account if you do not hav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7C4-F637-4BD8-9DCC-0683723A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Blackboard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gister for the firs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na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wentworth user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6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7D7B-8DBA-4B14-8C96-6C219CF2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58720" y="533520"/>
            <a:ext cx="858528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54160" y="4352400"/>
            <a:ext cx="837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loma Valverde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ant Professor,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Location: Ira Allen Building 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valverdep@wit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hou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/T/Th/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-12:5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phone: 617-989-4439 (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tact by Google voice/video ch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mail: palomavalverdebone@gmail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Biology, Life and The Scientific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1 lecture: Chapter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mad2543X_03_04"/>
          <p:cNvPicPr/>
          <p:nvPr/>
        </p:nvPicPr>
        <p:blipFill>
          <a:blip r:embed="rId1"/>
          <a:stretch/>
        </p:blipFill>
        <p:spPr>
          <a:xfrm>
            <a:off x="2819520" y="2514600"/>
            <a:ext cx="3008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mad2543X_01_01.jpg"/>
          <p:cNvPicPr/>
          <p:nvPr/>
        </p:nvPicPr>
        <p:blipFill>
          <a:blip r:embed="rId2"/>
          <a:stretch/>
        </p:blipFill>
        <p:spPr>
          <a:xfrm>
            <a:off x="1371600" y="4862520"/>
            <a:ext cx="6553080" cy="19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valverdep</cp:lastModifiedBy>
  <dcterms:modified xsi:type="dcterms:W3CDTF">2011-01-16T05:08:20Z</dcterms:modified>
  <cp:revision>794</cp:revision>
  <dc:subject/>
  <dc:title>PowerPoint Presentation</dc:title>
</cp:coreProperties>
</file>